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8E9-7108-4E69-932D-6D491655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D5F-6792-4B17-A1EB-D91294AD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0A7-29E1-4B02-AD99-1D511C19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E29-0F32-443E-9A14-FC25BE06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CA7-AFBA-48B7-B1B3-BDB06E7A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783-CD79-43ED-8911-BFB99EFC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311-7ED4-4FD2-BBAE-4CC025E3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826-6ABC-4188-A04F-C52FE2CA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BB6-1258-43A6-ACB0-137BA2FF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BC4-C977-4A04-A2AA-B24007F6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F0D-8E02-46AF-B133-0400B636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BFD-1054-45FB-8970-EFD69B93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B16D-D7E7-4F53-8C83-CEA9C7616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System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7772400" cy="40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205740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2767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ordered pair in a system that makes all the equations true i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5181480" cy="39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51814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lving Systems by Grap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1671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59436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raph each equation and find the point of inter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038480" y="1066680"/>
            <a:ext cx="4724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7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Systems Using Sub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8288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ing Sub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1697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9920" y="914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.  Number th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83808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1880" y="137160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I. Solve one equati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ithe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22096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III. Substitute the answer from step II into the other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06960" y="327672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IV. Solve for the rem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4038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V. Plug the answer from step IV  into either of the original equations to find the other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3341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. Write the answer as an ordered pair 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61722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VII. Check your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942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924680" y="198108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9:56:11Z</dcterms:created>
  <dc:creator>grahams</dc:creator>
  <dc:description/>
  <dc:language>en-US</dc:language>
  <cp:lastModifiedBy>grahams</cp:lastModifiedBy>
  <dcterms:modified xsi:type="dcterms:W3CDTF">2013-02-19T13:21:39Z</dcterms:modified>
  <cp:revision>2</cp:revision>
  <dc:subject/>
  <dc:title>Lesson 7.1 Solving Systems by Graphing</dc:title>
</cp:coreProperties>
</file>